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433-D76F-4AF1-9680-06DEFD99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E0F-A09B-4330-AF1A-D9581B07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001-9A45-42E7-A854-17F21DB1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AC5-BF4D-4637-A9A6-72F9F51E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76D6-8DFD-475A-A592-F2DF3059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241-4E65-4460-B6CE-A64176FA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8D1-9AA5-42ED-ABD3-4E2B2DD6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1A9-76F2-4D66-94AF-92314629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19D-F998-4486-B10D-8FDF28D9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076-906D-4D3E-B1A2-AB1A7F78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B62-D64D-4781-B405-64904D69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9AE-47A7-4F9D-9EDA-9BD1C249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3ED3-9ECF-4E20-96D9-1720D6F02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825310RTEFHjwkPO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7760" y="0"/>
            <a:ext cx="84452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يا أول النبع، يا آخر المد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يا خالق الجمال والبحر والصد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حكيولي عن حبك (يا يسوع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بعدو عم يروي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وحدو اللي رح يبق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ial"/>
              </a:rPr>
              <a:t>ومرة بها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لزمان دخلت عقلب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وغمرني نورك ورحل النسي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وضحكت عيني ووصل صداه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 (Arabic)"/>
                <a:ea typeface="Times New Roman (Arabic)"/>
              </a:rPr>
              <a:t> لعند السما، لفرح الجن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54_PG8028" descr=""/>
          <p:cNvPicPr/>
          <p:nvPr/>
        </p:nvPicPr>
        <p:blipFill>
          <a:blip r:embed="rId2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56480" y="0"/>
            <a:ext cx="5938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يا أول النبع، يا آخر المد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يا خالق الجم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والبحر والصد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حكيولي عن حبك (يا يسو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بعدو عم يروي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وحدو اللي رح يبق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يمكن ألف م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تركتك ونسيت العه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وبعيد الخوف ياخذ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وما يبقى حدى ح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يضل حبك ناطر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risttheTwoThievesZo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5985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يا أول النبع، يا آخر المد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يا خالق الجمال والبحر والصد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حكيولي عن حبك (يا يسوع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بعدو عم يروي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وحدو اللي رح يبق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72640" y="4756320"/>
            <a:ext cx="864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وعطريق الشوك رافقني صليب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وصار ألم الأرض ممزوج بعذاب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جرحك غمر الكون، والدني كل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35:21Z</dcterms:modified>
  <cp:revision>6</cp:revision>
  <dc:subject/>
  <dc:title>PowerPoint Presentation</dc:title>
</cp:coreProperties>
</file>